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D740-DA6D-4ED9-BAA5-CF8D1258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8503-59ED-4B9D-ADD9-AB5477CB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82FE-D8E9-475C-B025-082A07DF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46A6-A23C-41CC-84AF-8ABEC6AC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6693-DFA2-4A0F-807B-16A563FA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F3F9-5E3D-450E-8677-8C1CE6B8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34E4-13AD-43C7-8954-85E50004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BB0A-0B19-4E42-A4B5-0941360E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9647-F4B9-4504-A771-EDEC84A6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1306-CA4C-454C-9E84-4C63A24C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2490-E8A4-453F-8689-83822F71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D9C1-2BD0-4D05-8D0A-6E5E9F28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1E0C10-2EA6-400A-8802-F7965695D2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96C37A-2EE1-46DD-85DC-D448719BD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slideshare is wor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@prabhu-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01:07Z</dcterms:created>
  <dc:creator>Prabhu</dc:creator>
  <dc:description/>
  <dc:language>en-US</dc:language>
  <cp:lastModifiedBy>Prabhu</cp:lastModifiedBy>
  <dcterms:modified xsi:type="dcterms:W3CDTF">2008-05-30T02:02:00Z</dcterms:modified>
  <cp:revision>1</cp:revision>
  <dc:subject/>
  <dc:title>Pyslideshare is working!</dc:title>
</cp:coreProperties>
</file>