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FBA7-89B6-431B-B1AC-3662C1845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C8AD-C553-40B0-9870-BDCFC322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0760-4E77-4FBE-81A6-3175CFDF5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8474-AF28-4819-B7DF-A3B494AF7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7793-884B-4E40-B8CF-5D4309A6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6F52-3F7B-4856-9B25-6AA8BA5B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B15E-3723-4CAD-A01C-AF4E7CB4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96B2-3360-4408-AE8C-12B703AD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9744-CE46-4A7A-81DC-B3BB8E04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A7D9-6E73-4F33-BF06-958591E1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F6DD-29C5-4839-8B22-A4EFDC33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EDA5-24F6-49BF-9877-6725D180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780F-C7CF-4FF7-9700-8EB4FDCE7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Something for the mac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0T14:57:39Z</dcterms:created>
  <dc:creator>cxoffice-XP</dc:creator>
  <dc:description/>
  <dc:language>en-US</dc:language>
  <cp:lastModifiedBy>cxoffice-XP</cp:lastModifiedBy>
  <dcterms:modified xsi:type="dcterms:W3CDTF">2006-11-10T14:58:15Z</dcterms:modified>
  <cp:revision>1</cp:revision>
  <dc:subject/>
  <dc:title>Do Something for the macro</dc:title>
</cp:coreProperties>
</file>