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947-94AF-4C95-8CD3-0906A34E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373-B4BE-47CA-AB90-008141C9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4E1-EF69-478E-A51A-B280EDC3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C14-1EAE-4A8B-BB7B-8E06CD61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A06-FE75-45F8-B57E-710650B4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24C-B4BC-45CA-A80D-4741D43B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EFA-5722-4C73-B72C-A9933440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26D-0BE6-4177-9556-F31BFCC9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FB1-D60A-4380-AAB4-E9DEFA46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ADF-665E-4685-A169-27FC7EBA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871-E661-401A-B6FA-61A99597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8FF-DE32-4654-A29C-3925D2B6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9273-607A-4429-96E7-3BAD6A535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Something for the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57:39Z</dcterms:created>
  <dc:creator>cxoffice-XP</dc:creator>
  <dc:description/>
  <dc:language>en-US</dc:language>
  <cp:lastModifiedBy>cxoffice-XP</cp:lastModifiedBy>
  <dcterms:modified xsi:type="dcterms:W3CDTF">2006-11-10T14:58:15Z</dcterms:modified>
  <cp:revision>1</cp:revision>
  <dc:subject/>
  <dc:title>Do Something for the macro</dc:title>
</cp:coreProperties>
</file>